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9.wmf" ContentType="image/x-wmf"/>
  <Override PartName="/ppt/media/image15.png" ContentType="image/png"/>
  <Override PartName="/ppt/media/image3.jpeg" ContentType="image/jpeg"/>
  <Override PartName="/ppt/media/image6.jpeg" ContentType="image/jpeg"/>
  <Override PartName="/ppt/media/image12.wmf" ContentType="image/x-wmf"/>
  <Override PartName="/ppt/media/image4.png" ContentType="image/png"/>
  <Override PartName="/ppt/media/image7.jpeg" ContentType="image/jpeg"/>
  <Override PartName="/ppt/media/image10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4-H Study of Positive Youth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66"/>
                </a:solidFill>
                <a:latin typeface="Tw Cen MT"/>
              </a:rPr>
              <a:t>Click to move the slide</a:t>
            </a: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1A6A-BDDF-480A-800D-611389A5D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4-H Study of Positive Youth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4-H Study of Positive Youth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4-H Study of Positive Youth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4-H Study of Positive Youth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4-H Study of Positive Youth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4-H Study of Positive Youth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0" y="738000"/>
            <a:ext cx="640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73040"/>
            <a:ext cx="80769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0" y="738000"/>
            <a:ext cx="640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3941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828440"/>
            <a:ext cx="3941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73040"/>
            <a:ext cx="3941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73040"/>
            <a:ext cx="3941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0" y="738000"/>
            <a:ext cx="640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26006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828440"/>
            <a:ext cx="26006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828440"/>
            <a:ext cx="26006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73040"/>
            <a:ext cx="26006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73040"/>
            <a:ext cx="26006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73040"/>
            <a:ext cx="26006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0" y="738000"/>
            <a:ext cx="640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0" y="738000"/>
            <a:ext cx="640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0" y="738000"/>
            <a:ext cx="640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3941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828440"/>
            <a:ext cx="3941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0" y="738000"/>
            <a:ext cx="640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6000" y="838080"/>
            <a:ext cx="64008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0" y="738000"/>
            <a:ext cx="640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3941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828440"/>
            <a:ext cx="3941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73040"/>
            <a:ext cx="3941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0" y="738000"/>
            <a:ext cx="640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0" y="738000"/>
            <a:ext cx="640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3941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828440"/>
            <a:ext cx="3941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73040"/>
            <a:ext cx="3941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0" y="738000"/>
            <a:ext cx="640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3941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828440"/>
            <a:ext cx="3941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73040"/>
            <a:ext cx="80769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0" y="738000"/>
            <a:ext cx="640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73040"/>
            <a:ext cx="80769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0" y="738000"/>
            <a:ext cx="640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3941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828440"/>
            <a:ext cx="3941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73040"/>
            <a:ext cx="3941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73040"/>
            <a:ext cx="3941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0" y="738000"/>
            <a:ext cx="640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26006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828440"/>
            <a:ext cx="26006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828440"/>
            <a:ext cx="26006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73040"/>
            <a:ext cx="26006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73040"/>
            <a:ext cx="26006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73040"/>
            <a:ext cx="26006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738000"/>
            <a:ext cx="640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0" y="738000"/>
            <a:ext cx="640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3941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828440"/>
            <a:ext cx="3941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0" y="738000"/>
            <a:ext cx="640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0" y="838080"/>
            <a:ext cx="64008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0" y="738000"/>
            <a:ext cx="640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3941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828440"/>
            <a:ext cx="3941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73040"/>
            <a:ext cx="3941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0" y="738000"/>
            <a:ext cx="640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3941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828440"/>
            <a:ext cx="3941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73040"/>
            <a:ext cx="3941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0" y="738000"/>
            <a:ext cx="640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3941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828440"/>
            <a:ext cx="3941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73040"/>
            <a:ext cx="80769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Letterhead_header"/>
          <p:cNvPicPr/>
          <p:nvPr/>
        </p:nvPicPr>
        <p:blipFill>
          <a:blip r:embed="rId2"/>
          <a:stretch/>
        </p:blipFill>
        <p:spPr>
          <a:xfrm>
            <a:off x="228600" y="57240"/>
            <a:ext cx="8620200" cy="1590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0" y="83808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66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82844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336699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w Cen MT"/>
              </a:rPr>
              <a:t>Click to edit the outline text format</a:t>
            </a: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  <a:p>
            <a:pPr lvl="1" marL="676080" indent="-259920">
              <a:spcBef>
                <a:spcPts val="901"/>
              </a:spcBef>
              <a:buClr>
                <a:srgbClr val="336699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w Cen MT"/>
              </a:rPr>
              <a:t>Second Outline Level</a:t>
            </a: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  <a:p>
            <a:pPr lvl="2" marL="1040040" indent="-207720">
              <a:spcBef>
                <a:spcPts val="9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w Cen MT"/>
              </a:rPr>
              <a:t>Third Outline Level</a:t>
            </a: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  <a:p>
            <a:pPr lvl="3" marL="1455840" indent="-207720">
              <a:spcBef>
                <a:spcPts val="9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w Cen MT"/>
              </a:rPr>
              <a:t>Fourth Outline Level</a:t>
            </a: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  <a:p>
            <a:pPr lvl="4" marL="1872000" indent="-207720">
              <a:spcBef>
                <a:spcPts val="901"/>
              </a:spcBef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w Cen MT"/>
              </a:rPr>
              <a:t>Fifth Outline Level</a:t>
            </a: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  <a:p>
            <a:pPr lvl="5" marL="1872000" indent="-20772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w Cen MT"/>
              </a:rPr>
              <a:t>Sixth Outline Level</a:t>
            </a: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  <a:p>
            <a:pPr lvl="6" marL="1872000" indent="-20772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w Cen MT"/>
              </a:rPr>
              <a:t>Seventh Outline Level</a:t>
            </a: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pic>
        <p:nvPicPr>
          <p:cNvPr id="3" name="Picture 9" descr="Letterhead_footer"/>
          <p:cNvPicPr/>
          <p:nvPr/>
        </p:nvPicPr>
        <p:blipFill>
          <a:blip r:embed="rId3"/>
          <a:srcRect l="0" t="13605" r="0" b="19229"/>
          <a:stretch/>
        </p:blipFill>
        <p:spPr>
          <a:xfrm>
            <a:off x="228600" y="6172200"/>
            <a:ext cx="868680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3720" y="54900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e5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e4e5ff"/>
              </a:solidFill>
              <a:latin typeface="Times New Roman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6684840" y="6424560"/>
            <a:ext cx="22654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2f7f9f"/>
                </a:solidFill>
                <a:latin typeface="Arial"/>
                <a:ea typeface="Arial"/>
              </a:rPr>
              <a:t>Tufts University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2f7f9f"/>
                </a:solidFill>
                <a:latin typeface="Arial"/>
                <a:ea typeface="Arial"/>
              </a:rPr>
              <a:t>July 11, 2007  </a:t>
            </a:r>
            <a:fld id="{AA4D89D9-2349-43BA-A0D2-A797CC371BB6}" type="slidenum">
              <a:rPr b="0" i="1" lang="en-US" sz="1000" spc="-1" strike="noStrike">
                <a:solidFill>
                  <a:srgbClr val="2f7f9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5560" y="1547640"/>
            <a:ext cx="8345160" cy="4794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00ff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77760" y="6424560"/>
            <a:ext cx="595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83b2"/>
                </a:solidFill>
                <a:latin typeface="Arial"/>
                <a:ea typeface="Arial"/>
              </a:rPr>
              <a:t>The 4-H Study of PYD:  BREEZE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83b2"/>
                </a:solidFill>
                <a:latin typeface="Arial"/>
                <a:ea typeface="Arial"/>
              </a:rPr>
              <a:t>R. M. Lerner, J. V. Lerner, E. Phelps, &amp; N. Zarrett</a:t>
            </a:r>
            <a:r>
              <a:rPr b="0" i="1" lang="en-US" sz="1000" spc="-1" strike="noStrike">
                <a:solidFill>
                  <a:srgbClr val="2f7f9f"/>
                </a:solidFill>
                <a:latin typeface="Arial"/>
                <a:ea typeface="Arial"/>
              </a:rPr>
              <a:t> </a:t>
            </a:r>
            <a:r>
              <a:rPr b="0" i="1" lang="en-US" sz="1100" spc="-1" strike="noStrike">
                <a:solidFill>
                  <a:srgbClr val="2f7f9f"/>
                </a:solidFill>
                <a:latin typeface="Arial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Tufts_univ_blue"/>
          <p:cNvPicPr/>
          <p:nvPr/>
        </p:nvPicPr>
        <p:blipFill>
          <a:blip r:embed="rId3"/>
          <a:stretch/>
        </p:blipFill>
        <p:spPr>
          <a:xfrm>
            <a:off x="77760" y="87480"/>
            <a:ext cx="914400" cy="39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logo in square"/>
          <p:cNvPicPr/>
          <p:nvPr/>
        </p:nvPicPr>
        <p:blipFill>
          <a:blip r:embed="rId1"/>
          <a:stretch/>
        </p:blipFill>
        <p:spPr>
          <a:xfrm>
            <a:off x="380880" y="250920"/>
            <a:ext cx="1752840" cy="17301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9"/>
          <p:cNvSpPr/>
          <p:nvPr/>
        </p:nvSpPr>
        <p:spPr>
          <a:xfrm>
            <a:off x="1371600" y="2362320"/>
            <a:ext cx="6400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4-H Study on Positive Youth Develop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2209320" y="11844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4-H Study of Positive Youth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80880" y="152388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Positive Youth Development (PYD) is constituted by “Five Cs” that result in a 6</a:t>
            </a:r>
            <a:r>
              <a:rPr b="0" lang="en-US" sz="2400" spc="-1" strike="noStrike" baseline="30000">
                <a:solidFill>
                  <a:srgbClr val="336699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 “C”—Contrib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85800" y="2286000"/>
            <a:ext cx="2955960" cy="36576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6699"/>
                </a:solidFill>
                <a:uFillTx/>
                <a:latin typeface="Arial"/>
                <a:ea typeface="Arial"/>
              </a:rPr>
              <a:t>The Five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Compe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C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 rot="16200000">
            <a:off x="4358520" y="3261600"/>
            <a:ext cx="960480" cy="1752480"/>
          </a:xfrm>
          <a:prstGeom prst="downArrow">
            <a:avLst>
              <a:gd name="adj1" fmla="val 50000"/>
              <a:gd name="adj2" fmla="val 74723"/>
            </a:avLst>
          </a:prstGeom>
          <a:solidFill>
            <a:srgbClr val="6b6bcf"/>
          </a:solidFill>
          <a:ln w="93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6019920" y="3505320"/>
            <a:ext cx="2420640" cy="11692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6699"/>
                </a:solidFill>
                <a:uFillTx/>
                <a:latin typeface="Arial"/>
                <a:ea typeface="Arial"/>
              </a:rPr>
              <a:t>The Sixth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Con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0" y="83808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Arial"/>
                <a:ea typeface="Arial"/>
              </a:rPr>
              <a:t>The Basic Idea</a:t>
            </a:r>
            <a:endParaRPr b="0" lang="en-US" sz="3600" spc="-1" strike="noStrike">
              <a:solidFill>
                <a:srgbClr val="339966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2209320" y="11844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4-H Study of Positive Youth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lowchart: Connector 7"/>
          <p:cNvSpPr/>
          <p:nvPr/>
        </p:nvSpPr>
        <p:spPr>
          <a:xfrm>
            <a:off x="152280" y="1600200"/>
            <a:ext cx="1905120" cy="838080"/>
          </a:xfrm>
          <a:prstGeom prst="flowChartConnector">
            <a:avLst/>
          </a:prstGeom>
          <a:solidFill>
            <a:srgbClr val="a7f0ff"/>
          </a:solidFill>
          <a:ln w="25560">
            <a:solidFill>
              <a:srgbClr val="0093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9a"/>
                </a:solidFill>
                <a:latin typeface="Arial"/>
                <a:ea typeface="Arial"/>
              </a:rPr>
              <a:t>Compet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lowchart: Connector 8"/>
          <p:cNvSpPr/>
          <p:nvPr/>
        </p:nvSpPr>
        <p:spPr>
          <a:xfrm>
            <a:off x="4038480" y="4038480"/>
            <a:ext cx="1295640" cy="914400"/>
          </a:xfrm>
          <a:prstGeom prst="flowChartConnector">
            <a:avLst/>
          </a:prstGeom>
          <a:solidFill>
            <a:srgbClr val="e86a88"/>
          </a:solidFill>
          <a:ln w="25560">
            <a:solidFill>
              <a:srgbClr val="991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1736"/>
                </a:solidFill>
                <a:latin typeface="Tw Cen MT"/>
              </a:rPr>
              <a:t>PY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lowchart: Connector 9"/>
          <p:cNvSpPr/>
          <p:nvPr/>
        </p:nvSpPr>
        <p:spPr>
          <a:xfrm>
            <a:off x="6553080" y="3429000"/>
            <a:ext cx="1905120" cy="762120"/>
          </a:xfrm>
          <a:prstGeom prst="flowChartConnector">
            <a:avLst/>
          </a:prstGeom>
          <a:solidFill>
            <a:srgbClr val="b07c98"/>
          </a:solidFill>
          <a:ln w="25560">
            <a:solidFill>
              <a:srgbClr val="663e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e54"/>
                </a:solidFill>
                <a:latin typeface="Tw Cen MT"/>
              </a:rPr>
              <a:t>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lowchart: Connector 10"/>
          <p:cNvSpPr/>
          <p:nvPr/>
        </p:nvSpPr>
        <p:spPr>
          <a:xfrm>
            <a:off x="6553080" y="4724280"/>
            <a:ext cx="1905120" cy="914400"/>
          </a:xfrm>
          <a:prstGeom prst="flowChartConnector">
            <a:avLst/>
          </a:prstGeom>
          <a:solidFill>
            <a:srgbClr val="f8be84"/>
          </a:solidFill>
          <a:ln w="25560">
            <a:solidFill>
              <a:srgbClr val="ce6d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e6d0c"/>
                </a:solidFill>
                <a:latin typeface="Tw Cen MT"/>
              </a:rPr>
              <a:t>Reduced Risk Behavi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lowchart: Connector 11"/>
          <p:cNvSpPr/>
          <p:nvPr/>
        </p:nvSpPr>
        <p:spPr>
          <a:xfrm>
            <a:off x="762120" y="3124080"/>
            <a:ext cx="1600200" cy="914400"/>
          </a:xfrm>
          <a:prstGeom prst="flowChartConnector">
            <a:avLst/>
          </a:prstGeom>
          <a:solidFill>
            <a:srgbClr val="95e569"/>
          </a:solidFill>
          <a:ln w="25560">
            <a:solidFill>
              <a:srgbClr val="489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89a1a"/>
                </a:solidFill>
                <a:latin typeface="Tw Cen MT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89a1a"/>
                </a:solidFill>
                <a:latin typeface="Tw Cen MT"/>
              </a:rPr>
              <a:t>As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2"/>
          <p:cNvSpPr/>
          <p:nvPr/>
        </p:nvSpPr>
        <p:spPr>
          <a:xfrm>
            <a:off x="685800" y="5257800"/>
            <a:ext cx="1676520" cy="914400"/>
          </a:xfrm>
          <a:prstGeom prst="flowChartConnector">
            <a:avLst/>
          </a:prstGeom>
          <a:solidFill>
            <a:srgbClr val="95e569"/>
          </a:solidFill>
          <a:ln w="25560">
            <a:solidFill>
              <a:srgbClr val="489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89a1a"/>
                </a:solidFill>
                <a:latin typeface="Tw Cen MT"/>
              </a:rPr>
              <a:t>Contex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89a1a"/>
                </a:solidFill>
                <a:latin typeface="Tw Cen MT"/>
              </a:rPr>
              <a:t>As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3"/>
          <p:cNvSpPr/>
          <p:nvPr/>
        </p:nvSpPr>
        <p:spPr>
          <a:xfrm>
            <a:off x="7238880" y="1523880"/>
            <a:ext cx="1752840" cy="914400"/>
          </a:xfrm>
          <a:prstGeom prst="flowChartConnector">
            <a:avLst/>
          </a:prstGeom>
          <a:solidFill>
            <a:srgbClr val="a7f0ff"/>
          </a:solidFill>
          <a:ln w="25560">
            <a:solidFill>
              <a:srgbClr val="0093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9a"/>
                </a:solidFill>
                <a:latin typeface="Arial"/>
                <a:ea typeface="Arial"/>
              </a:rPr>
              <a:t>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4"/>
          <p:cNvSpPr/>
          <p:nvPr/>
        </p:nvSpPr>
        <p:spPr>
          <a:xfrm>
            <a:off x="5715000" y="1523880"/>
            <a:ext cx="1447920" cy="914400"/>
          </a:xfrm>
          <a:prstGeom prst="flowChartConnector">
            <a:avLst/>
          </a:prstGeom>
          <a:solidFill>
            <a:srgbClr val="a7f0ff"/>
          </a:solidFill>
          <a:ln w="25560">
            <a:solidFill>
              <a:srgbClr val="0093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9a"/>
                </a:solidFill>
                <a:latin typeface="Arial"/>
                <a:ea typeface="Arial"/>
              </a:rPr>
              <a:t>C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5"/>
          <p:cNvSpPr/>
          <p:nvPr/>
        </p:nvSpPr>
        <p:spPr>
          <a:xfrm>
            <a:off x="3962520" y="1523880"/>
            <a:ext cx="1523880" cy="914400"/>
          </a:xfrm>
          <a:prstGeom prst="flowChartConnector">
            <a:avLst/>
          </a:prstGeom>
          <a:solidFill>
            <a:srgbClr val="a7f0ff"/>
          </a:solidFill>
          <a:ln w="25560">
            <a:solidFill>
              <a:srgbClr val="0093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9a"/>
                </a:solidFill>
                <a:latin typeface="Arial"/>
                <a:ea typeface="Arial"/>
              </a:rPr>
              <a:t>Charac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6"/>
          <p:cNvSpPr/>
          <p:nvPr/>
        </p:nvSpPr>
        <p:spPr>
          <a:xfrm>
            <a:off x="2133720" y="1523880"/>
            <a:ext cx="1752480" cy="914400"/>
          </a:xfrm>
          <a:prstGeom prst="flowChartConnector">
            <a:avLst/>
          </a:prstGeom>
          <a:solidFill>
            <a:srgbClr val="a7f0ff"/>
          </a:solidFill>
          <a:ln w="25560">
            <a:solidFill>
              <a:srgbClr val="0093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9a"/>
                </a:solidFill>
                <a:latin typeface="Arial"/>
                <a:ea typeface="Arial"/>
              </a:rPr>
              <a:t>Conf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21"/>
          <p:cNvCxnSpPr/>
          <p:nvPr/>
        </p:nvCxnSpPr>
        <p:spPr>
          <a:xfrm flipV="1">
            <a:off x="1216440" y="4039920"/>
            <a:ext cx="3960" cy="121968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136" name="Straight Arrow Connector 26"/>
          <p:cNvCxnSpPr/>
          <p:nvPr/>
        </p:nvCxnSpPr>
        <p:spPr>
          <a:xfrm flipH="1">
            <a:off x="1828440" y="4038120"/>
            <a:ext cx="2160" cy="122004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137" name="Straight Arrow Connector 29"/>
          <p:cNvCxnSpPr>
            <a:stCxn id="130" idx="6"/>
            <a:endCxn id="126" idx="2"/>
          </p:cNvCxnSpPr>
          <p:nvPr/>
        </p:nvCxnSpPr>
        <p:spPr>
          <a:xfrm flipV="1">
            <a:off x="2362320" y="4494960"/>
            <a:ext cx="1676880" cy="122004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138" name="Straight Arrow Connector 31"/>
          <p:cNvCxnSpPr>
            <a:stCxn id="129" idx="6"/>
            <a:endCxn id="126" idx="2"/>
          </p:cNvCxnSpPr>
          <p:nvPr/>
        </p:nvCxnSpPr>
        <p:spPr>
          <a:xfrm>
            <a:off x="2362320" y="3581280"/>
            <a:ext cx="1676880" cy="91512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139" name="Straight Arrow Connector 37"/>
          <p:cNvCxnSpPr>
            <a:stCxn id="126" idx="6"/>
            <a:endCxn id="127" idx="2"/>
          </p:cNvCxnSpPr>
          <p:nvPr/>
        </p:nvCxnSpPr>
        <p:spPr>
          <a:xfrm flipV="1">
            <a:off x="5334120" y="3809160"/>
            <a:ext cx="1219680" cy="68652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140" name="Straight Arrow Connector 38"/>
          <p:cNvCxnSpPr>
            <a:stCxn id="126" idx="6"/>
            <a:endCxn id="128" idx="2"/>
          </p:cNvCxnSpPr>
          <p:nvPr/>
        </p:nvCxnSpPr>
        <p:spPr>
          <a:xfrm>
            <a:off x="5334120" y="4495320"/>
            <a:ext cx="1219680" cy="68652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141" name="Straight Arrow Connector 39"/>
          <p:cNvCxnSpPr>
            <a:stCxn id="126" idx="0"/>
            <a:endCxn id="125" idx="5"/>
          </p:cNvCxnSpPr>
          <p:nvPr/>
        </p:nvCxnSpPr>
        <p:spPr>
          <a:xfrm flipH="1" flipV="1">
            <a:off x="1777320" y="2315880"/>
            <a:ext cx="2909160" cy="1722960"/>
          </a:xfrm>
          <a:prstGeom prst="straightConnector1">
            <a:avLst/>
          </a:prstGeom>
          <a:ln cap="sq" w="31680">
            <a:solidFill>
              <a:srgbClr val="002060"/>
            </a:solidFill>
            <a:miter/>
            <a:tailEnd len="med" type="triangle" w="lg"/>
          </a:ln>
        </p:spPr>
      </p:cxnSp>
      <p:cxnSp>
        <p:nvCxnSpPr>
          <p:cNvPr id="142" name="Straight Arrow Connector 56"/>
          <p:cNvCxnSpPr>
            <a:stCxn id="126" idx="0"/>
            <a:endCxn id="134" idx="5"/>
          </p:cNvCxnSpPr>
          <p:nvPr/>
        </p:nvCxnSpPr>
        <p:spPr>
          <a:xfrm flipH="1" flipV="1">
            <a:off x="3628440" y="2304360"/>
            <a:ext cx="1058040" cy="173412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143" name="Straight Arrow Connector 57"/>
          <p:cNvCxnSpPr>
            <a:stCxn id="126" idx="0"/>
            <a:endCxn id="133" idx="4"/>
          </p:cNvCxnSpPr>
          <p:nvPr/>
        </p:nvCxnSpPr>
        <p:spPr>
          <a:xfrm flipV="1">
            <a:off x="4685400" y="2437560"/>
            <a:ext cx="38520" cy="160092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144" name="Straight Arrow Connector 58"/>
          <p:cNvCxnSpPr>
            <a:stCxn id="126" idx="0"/>
            <a:endCxn id="132" idx="3"/>
          </p:cNvCxnSpPr>
          <p:nvPr/>
        </p:nvCxnSpPr>
        <p:spPr>
          <a:xfrm flipV="1">
            <a:off x="4686480" y="2304360"/>
            <a:ext cx="1242000" cy="173412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145" name="Straight Arrow Connector 59"/>
          <p:cNvCxnSpPr>
            <a:stCxn id="126" idx="0"/>
          </p:cNvCxnSpPr>
          <p:nvPr/>
        </p:nvCxnSpPr>
        <p:spPr>
          <a:xfrm flipV="1">
            <a:off x="4685400" y="2437560"/>
            <a:ext cx="3238920" cy="160092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0" y="83808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Arial"/>
                <a:ea typeface="Arial"/>
              </a:rPr>
              <a:t>What do we hope to learn?</a:t>
            </a:r>
            <a:endParaRPr b="0" lang="en-US" sz="36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09120" y="1676160"/>
            <a:ext cx="7543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Arial"/>
                <a:ea typeface="Arial"/>
              </a:rPr>
              <a:t>How are NC youth doing in terms of the Five Cs (competence, confidence, connection, character, and caring) and the resulting, “6th C,” contributions to community?</a:t>
            </a:r>
            <a:endParaRPr b="1" lang="en-US" sz="3000" spc="-1" strike="noStrike">
              <a:solidFill>
                <a:srgbClr val="336699"/>
              </a:solidFill>
              <a:latin typeface="Tw Cen MT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Tw Cen MT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Arial"/>
                <a:ea typeface="Arial"/>
              </a:rPr>
              <a:t>How can 4-H Youth Development programs help parents, schools, communities, and organizations promote PYD?</a:t>
            </a:r>
            <a:endParaRPr b="1" lang="en-US" sz="3000" spc="-1" strike="noStrike">
              <a:solidFill>
                <a:srgbClr val="336699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209320" y="11844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4-H Study of Positive Youth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762120" y="22856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hat has the national The 4-H Study of Positive Youth Development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learned so far?</a:t>
            </a:r>
            <a:endParaRPr b="1" lang="en-US" sz="32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2209320" y="11844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4-H Study of Positive Youth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0" y="83808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Findings</a:t>
            </a: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61760" y="1676160"/>
            <a:ext cx="7543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Youth may show increases or decreases in both positive development and risk </a:t>
            </a:r>
            <a:endParaRPr b="1" lang="en-US" sz="2800" spc="-1" strike="noStrike">
              <a:solidFill>
                <a:srgbClr val="336699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e6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9e6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9e60"/>
                </a:solidFill>
                <a:latin typeface="Arial"/>
                <a:ea typeface="Arial"/>
              </a:rPr>
              <a:t>It is not that youth either engage in positive behavior or negative. They can engage in both behaviors.</a:t>
            </a:r>
            <a:endParaRPr b="0" lang="en-US" sz="2400" spc="-1" strike="noStrike">
              <a:solidFill>
                <a:srgbClr val="336699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9e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e6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9e6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9e60"/>
                </a:solidFill>
                <a:latin typeface="Arial"/>
                <a:ea typeface="Arial"/>
              </a:rPr>
              <a:t>Therefore, youth need both positive development promotion and risk/problem prevention.</a:t>
            </a:r>
            <a:endParaRPr b="0" lang="en-US" sz="2400" spc="-1" strike="noStrike">
              <a:solidFill>
                <a:srgbClr val="336699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e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209320" y="11844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4-H Study of Positive Youth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501480" y="663480"/>
            <a:ext cx="7336080" cy="56707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3112920" y="1816200"/>
            <a:ext cx="381240" cy="2376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495680" y="2276640"/>
            <a:ext cx="381240" cy="2376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3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032440" y="2698920"/>
            <a:ext cx="380880" cy="2376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959200" y="2506680"/>
            <a:ext cx="380880" cy="2376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3381480" y="3429000"/>
            <a:ext cx="380880" cy="2376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6684840" y="241200"/>
            <a:ext cx="2189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ffcc"/>
                </a:solidFill>
                <a:latin typeface="Arial"/>
                <a:ea typeface="Arial"/>
              </a:rPr>
              <a:t>[Youth participating in 2 or more waves are include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7400" y="279360"/>
            <a:ext cx="830556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Gender as a context</a:t>
            </a:r>
            <a:endParaRPr b="0" lang="en-US" sz="3200" spc="-1" strike="noStrike">
              <a:solidFill>
                <a:srgbClr val="e4e5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22360" y="1047600"/>
            <a:ext cx="6067440" cy="122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137160"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irls and boys tend to show different patterns in some important w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 Wa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500120" y="2622600"/>
            <a:ext cx="6259680" cy="341784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137160" bIns="46800" anchor="t">
            <a:noAutofit/>
          </a:bodyPr>
          <a:p>
            <a:pPr marL="282600" indent="-282600">
              <a:lnSpc>
                <a:spcPct val="140000"/>
              </a:lnSpc>
              <a:tabLst>
                <a:tab algn="l" pos="0"/>
                <a:tab algn="l" pos="2120760"/>
                <a:tab algn="l" pos="3720960"/>
                <a:tab algn="l" pos="4356000"/>
                <a:tab algn="l" pos="5445000"/>
                <a:tab algn="l" pos="6534000"/>
                <a:tab algn="l" pos="7623000"/>
                <a:tab algn="l" pos="8712360"/>
                <a:tab algn="l" pos="9801360"/>
                <a:tab algn="l" pos="10890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Girls vs. Bo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40000"/>
              </a:lnSpc>
              <a:tabLst>
                <a:tab algn="l" pos="0"/>
                <a:tab algn="l" pos="2120760"/>
                <a:tab algn="l" pos="3720960"/>
                <a:tab algn="l" pos="4356000"/>
                <a:tab algn="l" pos="5445000"/>
                <a:tab algn="l" pos="6534000"/>
                <a:tab algn="l" pos="7623000"/>
                <a:tab algn="l" pos="8712360"/>
                <a:tab algn="l" pos="9801360"/>
                <a:tab algn="l" pos="10890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High PYD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76% vs. 6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40000"/>
              </a:lnSpc>
              <a:tabLst>
                <a:tab algn="l" pos="0"/>
                <a:tab algn="l" pos="2120760"/>
                <a:tab algn="l" pos="3720960"/>
                <a:tab algn="l" pos="4356000"/>
                <a:tab algn="l" pos="5445000"/>
                <a:tab algn="l" pos="6534000"/>
                <a:tab algn="l" pos="7623000"/>
                <a:tab algn="l" pos="8712360"/>
                <a:tab algn="l" pos="9801360"/>
                <a:tab algn="l" pos="10890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High Contribution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33% vs. 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40000"/>
              </a:lnSpc>
              <a:tabLst>
                <a:tab algn="l" pos="0"/>
                <a:tab algn="l" pos="2120760"/>
                <a:tab algn="l" pos="3720960"/>
                <a:tab algn="l" pos="4356000"/>
                <a:tab algn="l" pos="5445000"/>
                <a:tab algn="l" pos="6534000"/>
                <a:tab algn="l" pos="7623000"/>
                <a:tab algn="l" pos="8712360"/>
                <a:tab algn="l" pos="9801360"/>
                <a:tab algn="l" pos="10890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Low Risk Behaviors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67% vs. 4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40000"/>
              </a:lnSpc>
              <a:tabLst>
                <a:tab algn="l" pos="0"/>
                <a:tab algn="l" pos="2120760"/>
                <a:tab algn="l" pos="3720960"/>
                <a:tab algn="l" pos="4356000"/>
                <a:tab algn="l" pos="5445000"/>
                <a:tab algn="l" pos="6534000"/>
                <a:tab algn="l" pos="7623000"/>
                <a:tab algn="l" pos="8712360"/>
                <a:tab algn="l" pos="9801360"/>
                <a:tab algn="l" pos="10890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Low Depressio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70% vs. 7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6684840" y="241200"/>
            <a:ext cx="2189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ffcc"/>
                </a:solidFill>
                <a:latin typeface="Arial"/>
                <a:ea typeface="Arial"/>
              </a:rPr>
              <a:t>[Youth participating in 2 or more waves are include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Object 2"/>
          <p:cNvGraphicFramePr/>
          <p:nvPr/>
        </p:nvGraphicFramePr>
        <p:xfrm>
          <a:off x="155520" y="2276640"/>
          <a:ext cx="4341960" cy="371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5520" y="2276640"/>
                    <a:ext cx="4341960" cy="37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3"/>
          <p:cNvGraphicFramePr/>
          <p:nvPr/>
        </p:nvGraphicFramePr>
        <p:xfrm>
          <a:off x="4456080" y="2276640"/>
          <a:ext cx="4492800" cy="3620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8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56080" y="2276640"/>
                    <a:ext cx="4492800" cy="36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3720" y="43344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4-H Participation in 8th Grade:</a:t>
            </a:r>
            <a:br>
              <a:rPr sz="3200"/>
            </a:b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PYD and Contribution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4e5ff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076400" y="1662120"/>
            <a:ext cx="721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verage score for participants in the ideal traj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841920" y="6116760"/>
            <a:ext cx="2189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ffcc"/>
                </a:solidFill>
                <a:latin typeface="Arial"/>
                <a:ea typeface="Arial"/>
              </a:rPr>
              <a:t>[Participation is defined as twice a month or mor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6531120" y="165240"/>
            <a:ext cx="261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ffcc"/>
                </a:solidFill>
                <a:latin typeface="Arial"/>
                <a:ea typeface="Arial"/>
              </a:rPr>
              <a:t>[8</a:t>
            </a:r>
            <a:r>
              <a:rPr b="0" i="1" lang="en-US" sz="1200" spc="-1" strike="noStrike" baseline="30000">
                <a:solidFill>
                  <a:srgbClr val="66ffcc"/>
                </a:solidFill>
                <a:latin typeface="Arial"/>
                <a:ea typeface="Arial"/>
              </a:rPr>
              <a:t>th</a:t>
            </a:r>
            <a:r>
              <a:rPr b="0" i="1" lang="en-US" sz="1200" spc="-1" strike="noStrike">
                <a:solidFill>
                  <a:srgbClr val="66ffcc"/>
                </a:solidFill>
                <a:latin typeface="Arial"/>
                <a:ea typeface="Arial"/>
              </a:rPr>
              <a:t> graders participating in 2 or more waves are included, N=994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3720" y="549000"/>
            <a:ext cx="822960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4-H Participation in 8th Grade:</a:t>
            </a:r>
            <a:br>
              <a:rPr sz="3200"/>
            </a:b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Depression and Risk Behaviors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4e5ff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076400" y="1892160"/>
            <a:ext cx="721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verage score for participants in the ideal traj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4"/>
          <p:cNvGraphicFramePr/>
          <p:nvPr/>
        </p:nvGraphicFramePr>
        <p:xfrm>
          <a:off x="4495680" y="2622600"/>
          <a:ext cx="4648320" cy="380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2622600"/>
                    <a:ext cx="4648320" cy="38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5"/>
          <p:cNvGraphicFramePr/>
          <p:nvPr/>
        </p:nvGraphicFramePr>
        <p:xfrm>
          <a:off x="193680" y="2546280"/>
          <a:ext cx="4262400" cy="387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8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3680" y="2546280"/>
                    <a:ext cx="4262400" cy="38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6"/>
          <p:cNvSpPr/>
          <p:nvPr/>
        </p:nvSpPr>
        <p:spPr>
          <a:xfrm>
            <a:off x="3841920" y="6116760"/>
            <a:ext cx="2189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ffcc"/>
                </a:solidFill>
                <a:latin typeface="Arial"/>
                <a:ea typeface="Arial"/>
              </a:rPr>
              <a:t>[Participation is defined as twice a month or mor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531120" y="165240"/>
            <a:ext cx="261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ffcc"/>
                </a:solidFill>
                <a:latin typeface="Arial"/>
                <a:ea typeface="Arial"/>
              </a:rPr>
              <a:t>[8</a:t>
            </a:r>
            <a:r>
              <a:rPr b="0" i="1" lang="en-US" sz="1200" spc="-1" strike="noStrike" baseline="30000">
                <a:solidFill>
                  <a:srgbClr val="66ffcc"/>
                </a:solidFill>
                <a:latin typeface="Arial"/>
                <a:ea typeface="Arial"/>
              </a:rPr>
              <a:t>th</a:t>
            </a:r>
            <a:r>
              <a:rPr b="0" i="1" lang="en-US" sz="1200" spc="-1" strike="noStrike">
                <a:solidFill>
                  <a:srgbClr val="66ffcc"/>
                </a:solidFill>
                <a:latin typeface="Arial"/>
                <a:ea typeface="Arial"/>
              </a:rPr>
              <a:t> graders participating in 2 or more waves are included, N=994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385920" y="2084400"/>
          <a:ext cx="8300880" cy="3635280"/>
        </p:xfrm>
        <a:graphic>
          <a:graphicData uri="http://schemas.openxmlformats.org/drawingml/2006/table">
            <a:tbl>
              <a:tblPr/>
              <a:tblGrid>
                <a:gridCol w="1842840"/>
                <a:gridCol w="924120"/>
                <a:gridCol w="1236600"/>
                <a:gridCol w="1530360"/>
                <a:gridCol w="1384200"/>
                <a:gridCol w="1382760"/>
              </a:tblGrid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N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Other 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Other Y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4-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PY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Bo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Gir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Depres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Bo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Gir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Risk Be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Bo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Gir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Contribu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Bo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Gir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Rectangle 74"/>
          <p:cNvSpPr/>
          <p:nvPr/>
        </p:nvSpPr>
        <p:spPr>
          <a:xfrm>
            <a:off x="423720" y="549360"/>
            <a:ext cx="821880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4-H Participation in 8th Grade:</a:t>
            </a:r>
            <a:br>
              <a:rPr sz="3200"/>
            </a:b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Outcomes by Sex</a:t>
            </a:r>
            <a:br>
              <a:rPr sz="3200"/>
            </a:b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(% in ideal trajectories)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5"/>
          <p:cNvSpPr/>
          <p:nvPr/>
        </p:nvSpPr>
        <p:spPr>
          <a:xfrm>
            <a:off x="6531120" y="165240"/>
            <a:ext cx="261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ffcc"/>
                </a:solidFill>
                <a:latin typeface="Arial"/>
                <a:ea typeface="Arial"/>
              </a:rPr>
              <a:t>[8</a:t>
            </a:r>
            <a:r>
              <a:rPr b="0" i="1" lang="en-US" sz="1200" spc="-1" strike="noStrike" baseline="30000">
                <a:solidFill>
                  <a:srgbClr val="66ffcc"/>
                </a:solidFill>
                <a:latin typeface="Arial"/>
                <a:ea typeface="Arial"/>
              </a:rPr>
              <a:t>th</a:t>
            </a:r>
            <a:r>
              <a:rPr b="0" i="1" lang="en-US" sz="1200" spc="-1" strike="noStrike">
                <a:solidFill>
                  <a:srgbClr val="66ffcc"/>
                </a:solidFill>
                <a:latin typeface="Arial"/>
                <a:ea typeface="Arial"/>
              </a:rPr>
              <a:t> graders participating in 2 or more waves are included, N=994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2193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  <a:ea typeface="Arial"/>
              </a:rPr>
              <a:t>Conducted by</a:t>
            </a: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  <a:p>
            <a:pPr marL="332640" indent="-332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  <a:ea typeface="Arial"/>
              </a:rPr>
              <a:t>4-H Youth Development Program Cooperative Extension Service</a:t>
            </a: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  <a:p>
            <a:pPr marL="332640" indent="-332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  <a:ea typeface="Arial"/>
              </a:rPr>
              <a:t>North Carolina State University</a:t>
            </a: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  <a:p>
            <a:pPr marL="332640" indent="-332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336699"/>
                </a:solidFill>
                <a:latin typeface="Arial"/>
                <a:ea typeface="Arial"/>
              </a:rPr>
              <a:t>in cooperation with</a:t>
            </a: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  <a:p>
            <a:pPr marL="332640" indent="-332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  <a:ea typeface="Arial"/>
              </a:rPr>
              <a:t>Tufts University, Medford, MA</a:t>
            </a: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  <a:p>
            <a:pPr marL="332640" indent="-332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  <a:p>
            <a:pPr marL="332640" indent="-332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  <a:ea typeface="Arial"/>
              </a:rPr>
              <a:t>Funded by National 4-H Council</a:t>
            </a: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209320" y="118440"/>
            <a:ext cx="52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4-H Study of Positive Youth Develop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0" y="83808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Findings</a:t>
            </a: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209320" y="11844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4-H Study of Positive Youth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533520" y="1600200"/>
            <a:ext cx="8001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4-H youth are </a:t>
            </a:r>
            <a:r>
              <a:rPr b="0" lang="en-US" sz="2800" spc="-1" strike="noStrike">
                <a:solidFill>
                  <a:srgbClr val="336699"/>
                </a:solidFill>
                <a:latin typeface="Arial Black"/>
                <a:ea typeface="Arial"/>
              </a:rPr>
              <a:t>more likely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than youth in other structured after school activities (SASAs) to be in the </a:t>
            </a:r>
            <a:r>
              <a:rPr b="0" lang="en-US" sz="2800" spc="-1" strike="noStrike">
                <a:solidFill>
                  <a:srgbClr val="336699"/>
                </a:solidFill>
                <a:latin typeface="Arial Black"/>
                <a:ea typeface="Arial"/>
              </a:rPr>
              <a:t>high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 contribution trajector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838080" y="3276720"/>
            <a:ext cx="7925040" cy="25146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marL="282600" indent="-282600">
              <a:lnSpc>
                <a:spcPct val="90000"/>
              </a:lnSpc>
              <a:tabLst>
                <a:tab algn="l" pos="0"/>
                <a:tab algn="l" pos="2120760"/>
                <a:tab algn="l" pos="4572000"/>
                <a:tab algn="l" pos="5445000"/>
                <a:tab algn="l" pos="6534000"/>
                <a:tab algn="l" pos="7623000"/>
                <a:tab algn="l" pos="8712360"/>
                <a:tab algn="l" pos="9801360"/>
                <a:tab algn="l" pos="10890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                   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Youth in High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tabLst>
                <a:tab algn="l" pos="0"/>
                <a:tab algn="l" pos="2120760"/>
                <a:tab algn="l" pos="4572000"/>
                <a:tab algn="l" pos="5445000"/>
                <a:tab algn="l" pos="6534000"/>
                <a:tab algn="l" pos="7623000"/>
                <a:tab algn="l" pos="8712360"/>
                <a:tab algn="l" pos="9801360"/>
                <a:tab algn="l" pos="1089036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Activity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                    Contribution Traj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tabLst>
                <a:tab algn="l" pos="0"/>
                <a:tab algn="l" pos="2120760"/>
                <a:tab algn="l" pos="4572000"/>
                <a:tab algn="l" pos="5445000"/>
                <a:tab algn="l" pos="6534000"/>
                <a:tab algn="l" pos="7623000"/>
                <a:tab algn="l" pos="8712360"/>
                <a:tab algn="l" pos="9801360"/>
                <a:tab algn="l" pos="1089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tabLst>
                <a:tab algn="l" pos="0"/>
                <a:tab algn="l" pos="2120760"/>
                <a:tab algn="l" pos="4572000"/>
                <a:tab algn="l" pos="5445000"/>
                <a:tab algn="l" pos="6534000"/>
                <a:tab algn="l" pos="7623000"/>
                <a:tab algn="l" pos="8712360"/>
                <a:tab algn="l" pos="9801360"/>
                <a:tab algn="l" pos="1089036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4-H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                     </a:t>
            </a:r>
            <a:r>
              <a:rPr b="1" lang="en-US" sz="2400" spc="-1" strike="noStrike">
                <a:solidFill>
                  <a:srgbClr val="336699"/>
                </a:solidFill>
                <a:latin typeface="Arial Black"/>
                <a:ea typeface="SimSun"/>
              </a:rPr>
              <a:t>21%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tabLst>
                <a:tab algn="l" pos="0"/>
                <a:tab algn="l" pos="2120760"/>
                <a:tab algn="l" pos="4572000"/>
                <a:tab algn="l" pos="5445000"/>
                <a:tab algn="l" pos="6534000"/>
                <a:tab algn="l" pos="7623000"/>
                <a:tab algn="l" pos="8712360"/>
                <a:tab algn="l" pos="9801360"/>
                <a:tab algn="l" pos="1089036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Other YDP, but not 4-H      </a:t>
            </a:r>
            <a:r>
              <a:rPr b="1" lang="en-US" sz="2400" spc="-1" strike="noStrike">
                <a:solidFill>
                  <a:srgbClr val="336699"/>
                </a:solidFill>
                <a:latin typeface="Arial Black"/>
                <a:ea typeface="SimSun"/>
              </a:rPr>
              <a:t>1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tabLst>
                <a:tab algn="l" pos="0"/>
                <a:tab algn="l" pos="2120760"/>
                <a:tab algn="l" pos="4572000"/>
                <a:tab algn="l" pos="5445000"/>
                <a:tab algn="l" pos="6534000"/>
                <a:tab algn="l" pos="7623000"/>
                <a:tab algn="l" pos="8712360"/>
                <a:tab algn="l" pos="9801360"/>
                <a:tab algn="l" pos="1089036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Other SASAs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                    </a:t>
            </a:r>
            <a:r>
              <a:rPr b="1" lang="en-US" sz="2400" spc="-1" strike="noStrike">
                <a:solidFill>
                  <a:srgbClr val="336699"/>
                </a:solidFill>
                <a:latin typeface="Arial Black"/>
                <a:ea typeface="SimSun"/>
              </a:rPr>
              <a:t>12%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2209320" y="11844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4-H Study of Positive Youth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533520" y="2971800"/>
            <a:ext cx="8001000" cy="30337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marL="282600" indent="-282600">
              <a:lnSpc>
                <a:spcPct val="90000"/>
              </a:lnSpc>
              <a:tabLst>
                <a:tab algn="l" pos="0"/>
                <a:tab algn="l" pos="2120760"/>
                <a:tab algn="l" pos="4572000"/>
                <a:tab algn="l" pos="5943600"/>
                <a:tab algn="l" pos="714996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Activity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                         Girls     Boys  Over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tabLst>
                <a:tab algn="l" pos="0"/>
                <a:tab algn="l" pos="2120760"/>
                <a:tab algn="l" pos="4572000"/>
                <a:tab algn="l" pos="5943600"/>
                <a:tab algn="l" pos="714996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tabLst>
                <a:tab algn="l" pos="0"/>
                <a:tab algn="l" pos="2120760"/>
                <a:tab algn="l" pos="4572000"/>
                <a:tab algn="l" pos="5943600"/>
                <a:tab algn="l" pos="714996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4-H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                          </a:t>
            </a:r>
            <a:r>
              <a:rPr b="1" lang="en-US" sz="2400" spc="-1" strike="noStrike">
                <a:solidFill>
                  <a:srgbClr val="336699"/>
                </a:solidFill>
                <a:latin typeface="Arial Black"/>
                <a:ea typeface="SimSun"/>
              </a:rPr>
              <a:t>25%   14%   2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tabLst>
                <a:tab algn="l" pos="0"/>
                <a:tab algn="l" pos="2120760"/>
                <a:tab algn="l" pos="4572000"/>
                <a:tab algn="l" pos="5943600"/>
                <a:tab algn="l" pos="714996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Other YDP, but not 4-H         </a:t>
            </a:r>
            <a:r>
              <a:rPr b="1" lang="en-US" sz="2400" spc="-1" strike="noStrike">
                <a:solidFill>
                  <a:srgbClr val="336699"/>
                </a:solidFill>
                <a:latin typeface="Arial Black"/>
                <a:ea typeface="SimSun"/>
              </a:rPr>
              <a:t>15%   12%   1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tabLst>
                <a:tab algn="l" pos="0"/>
                <a:tab algn="l" pos="2120760"/>
                <a:tab algn="l" pos="4572000"/>
                <a:tab algn="l" pos="5943600"/>
                <a:tab algn="l" pos="714996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Other SASAs                         </a:t>
            </a:r>
            <a:r>
              <a:rPr b="1" lang="en-US" sz="2400" spc="-1" strike="noStrike">
                <a:solidFill>
                  <a:srgbClr val="336699"/>
                </a:solidFill>
                <a:latin typeface="Arial Black"/>
                <a:ea typeface="SimSun"/>
              </a:rPr>
              <a:t>13%   10%   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tabLst>
                <a:tab algn="l" pos="0"/>
                <a:tab algn="l" pos="2120760"/>
                <a:tab algn="l" pos="4572000"/>
                <a:tab algn="l" pos="5943600"/>
                <a:tab algn="l" pos="714996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SimSun"/>
              </a:rPr>
              <a:t>	</a:t>
            </a:r>
            <a:r>
              <a:rPr b="1" lang="en-US" sz="4400" spc="-1" strike="noStrike">
                <a:solidFill>
                  <a:srgbClr val="336699"/>
                </a:solidFill>
                <a:latin typeface="Arial"/>
                <a:ea typeface="SimSu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tabLst>
                <a:tab algn="l" pos="0"/>
                <a:tab algn="l" pos="2120760"/>
                <a:tab algn="l" pos="4572000"/>
                <a:tab algn="l" pos="5943600"/>
                <a:tab algn="l" pos="714996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i="1" lang="en-US" sz="2000" spc="-1" strike="noStrike">
                <a:solidFill>
                  <a:srgbClr val="336699"/>
                </a:solidFill>
                <a:latin typeface="Arial"/>
                <a:ea typeface="SimSun"/>
              </a:rPr>
              <a:t>(% of each group in the high contribution trajectory; matched sam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7"/>
          <p:cNvSpPr/>
          <p:nvPr/>
        </p:nvSpPr>
        <p:spPr>
          <a:xfrm>
            <a:off x="1295280" y="16765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ere are significant differences between girls and boys in 4-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0" y="83808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Findings</a:t>
            </a: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4"/>
          <p:cNvSpPr/>
          <p:nvPr/>
        </p:nvSpPr>
        <p:spPr>
          <a:xfrm>
            <a:off x="2209320" y="11844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4-H Study of Positive Youth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33720" y="7617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Arial"/>
              </a:rPr>
              <a:t>This study is important so that we can…</a:t>
            </a:r>
            <a:endParaRPr b="0" lang="en-US" sz="36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21932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Evaluate our 4-H programs to determine how effective we are in fostering the “5 C’s” and the “6</a:t>
            </a:r>
            <a:r>
              <a:rPr b="1" lang="en-US" sz="3200" spc="-1" strike="noStrike" baseline="30000">
                <a:solidFill>
                  <a:srgbClr val="336699"/>
                </a:solidFill>
                <a:latin typeface="Arial"/>
                <a:ea typeface="Arial"/>
              </a:rPr>
              <a:t>th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C – Contribu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Use what we learn to improve, strengthen and enhance our 4-H pro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2209320" y="11844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4-H Study of Positive Youth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914040" y="19807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Share the information with other youth development programs so that they can strengthen, improve and enhance programs.</a:t>
            </a:r>
            <a:endParaRPr b="1" lang="en-US" sz="3200" spc="-1" strike="noStrike">
              <a:solidFill>
                <a:srgbClr val="336699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Share the results parents, schools, and communities in order to promote PYD.</a:t>
            </a:r>
            <a:endParaRPr b="1" lang="en-US" sz="3200" spc="-1" strike="noStrike">
              <a:solidFill>
                <a:srgbClr val="336699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33720" y="7617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Arial"/>
              </a:rPr>
              <a:t>This study is important so that we can…</a:t>
            </a:r>
            <a:endParaRPr b="0" lang="en-US" sz="3600" spc="-1" strike="noStrike">
              <a:solidFill>
                <a:srgbClr val="339966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"/>
          <p:cNvSpPr/>
          <p:nvPr/>
        </p:nvSpPr>
        <p:spPr>
          <a:xfrm>
            <a:off x="2209320" y="11844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4-H Study of Positive Youth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133720" y="762120"/>
            <a:ext cx="594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Arial"/>
              </a:rPr>
              <a:t>This study is important so that we ca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j0285049"/>
          <p:cNvPicPr/>
          <p:nvPr/>
        </p:nvPicPr>
        <p:blipFill>
          <a:blip r:embed="rId1"/>
          <a:stretch/>
        </p:blipFill>
        <p:spPr>
          <a:xfrm>
            <a:off x="3581280" y="2133720"/>
            <a:ext cx="1916280" cy="289548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1" name="Text Box 5"/>
          <p:cNvSpPr/>
          <p:nvPr/>
        </p:nvSpPr>
        <p:spPr>
          <a:xfrm>
            <a:off x="685800" y="51814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Arial"/>
              </a:rPr>
              <a:t>Help young people thriv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0" y="738000"/>
            <a:ext cx="640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3520" y="182844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8" descr="logo in square"/>
          <p:cNvPicPr/>
          <p:nvPr/>
        </p:nvPicPr>
        <p:blipFill>
          <a:blip r:embed="rId1"/>
          <a:stretch/>
        </p:blipFill>
        <p:spPr>
          <a:xfrm>
            <a:off x="380880" y="250920"/>
            <a:ext cx="1752840" cy="1730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http://www.bae.ncsu.edu/topic/lid/Images/NEW_EXT_LOGO_color.jpg"/>
          <p:cNvPicPr/>
          <p:nvPr/>
        </p:nvPicPr>
        <p:blipFill>
          <a:blip r:embed="rId2"/>
          <a:stretch/>
        </p:blipFill>
        <p:spPr>
          <a:xfrm>
            <a:off x="457200" y="2286000"/>
            <a:ext cx="4876920" cy="1479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http://www.fis.ncsu.edu/Advancement_Services/directors_pages/prospect_management/bigBrick.gif"/>
          <p:cNvPicPr/>
          <p:nvPr/>
        </p:nvPicPr>
        <p:blipFill>
          <a:blip r:embed="rId3"/>
          <a:stretch/>
        </p:blipFill>
        <p:spPr>
          <a:xfrm>
            <a:off x="533520" y="4343400"/>
            <a:ext cx="484812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2209320" y="11844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4-H Study of Positive Youth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609480" y="1523880"/>
            <a:ext cx="8077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mission of North Carolina Cooperative Extension is to partner with communities to deliver education and technology that enrich the lives, land, and economy of North Carolini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ncluding helping young people thriv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0" y="1600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How do you know if a plant is thriv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80880" y="281952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  <a:ea typeface="Arial"/>
              </a:rPr>
              <a:t>New bu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762120" y="4191120"/>
            <a:ext cx="2438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  <a:ea typeface="Arial"/>
              </a:rPr>
              <a:t>Growing tall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j0384711"/>
          <p:cNvPicPr/>
          <p:nvPr/>
        </p:nvPicPr>
        <p:blipFill>
          <a:blip r:embed="rId1"/>
          <a:stretch/>
        </p:blipFill>
        <p:spPr>
          <a:xfrm>
            <a:off x="3429000" y="2362320"/>
            <a:ext cx="2149560" cy="360504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Text Box 7"/>
          <p:cNvSpPr/>
          <p:nvPr/>
        </p:nvSpPr>
        <p:spPr>
          <a:xfrm>
            <a:off x="6248520" y="3429000"/>
            <a:ext cx="2438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Green lea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791320" y="5105520"/>
            <a:ext cx="2666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Looks Healt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2209320" y="11844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4-H Study of Positive Youth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2209320" y="11844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4-H Study of Positive Youth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1676520"/>
            <a:ext cx="8915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How do you know if a child is thriv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j0285049"/>
          <p:cNvPicPr/>
          <p:nvPr/>
        </p:nvPicPr>
        <p:blipFill>
          <a:blip r:embed="rId1"/>
          <a:stretch/>
        </p:blipFill>
        <p:spPr>
          <a:xfrm>
            <a:off x="3429000" y="2666880"/>
            <a:ext cx="2239920" cy="338616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2209320" y="11844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4-H Study of Positive Youth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914400" y="1600200"/>
            <a:ext cx="7238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The 4-H Study of Positive Youth Development will help us answer that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4-H Clover_code_line_FINAL.jpg"/>
          <p:cNvPicPr/>
          <p:nvPr/>
        </p:nvPicPr>
        <p:blipFill>
          <a:blip r:embed="rId1"/>
          <a:stretch/>
        </p:blipFill>
        <p:spPr>
          <a:xfrm>
            <a:off x="3429000" y="3505320"/>
            <a:ext cx="27432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0" y="83808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Design of the Study</a:t>
            </a: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480" y="182844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Arial"/>
                <a:ea typeface="Arial"/>
              </a:rPr>
              <a:t>This is a longitudinal study.  Youth are surveyed annually for several years.  Ideally, we will follow NC youth from 8th grade grade through high school.</a:t>
            </a:r>
            <a:endParaRPr b="1" lang="en-US" sz="3000" spc="-1" strike="noStrike">
              <a:solidFill>
                <a:srgbClr val="336699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6699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Arial"/>
                <a:ea typeface="Arial"/>
              </a:rPr>
              <a:t>The national study began with 5</a:t>
            </a:r>
            <a:r>
              <a:rPr b="0" lang="en-US" sz="3000" spc="-1" strike="noStrike" baseline="30000">
                <a:solidFill>
                  <a:srgbClr val="336699"/>
                </a:solidFill>
                <a:latin typeface="Arial"/>
                <a:ea typeface="Arial"/>
              </a:rPr>
              <a:t>th</a:t>
            </a:r>
            <a:r>
              <a:rPr b="0" lang="en-US" sz="3000" spc="-1" strike="noStrike">
                <a:solidFill>
                  <a:srgbClr val="336699"/>
                </a:solidFill>
                <a:latin typeface="Arial"/>
                <a:ea typeface="Arial"/>
              </a:rPr>
              <a:t> graders.</a:t>
            </a:r>
            <a:endParaRPr b="1" lang="en-US" sz="3000" spc="-1" strike="noStrike">
              <a:solidFill>
                <a:srgbClr val="336699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6699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Arial"/>
                <a:ea typeface="Arial"/>
              </a:rPr>
              <a:t>Overall, more than 5,000 youth and 2,000 parents from 37 states are involved.</a:t>
            </a:r>
            <a:endParaRPr b="1" lang="en-US" sz="3000" spc="-1" strike="noStrike">
              <a:solidFill>
                <a:srgbClr val="336699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209320" y="11844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4-H Study of Positive Youth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0" y="83808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Design of the Study</a:t>
            </a: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440" y="182880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2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Over 100 North Carolina youth and their parents were surveyed in spring 2008.</a:t>
            </a:r>
            <a:endParaRPr b="1" lang="en-US" sz="3200" spc="-1" strike="noStrike">
              <a:solidFill>
                <a:srgbClr val="336699"/>
              </a:solidFill>
              <a:latin typeface="Tw Cen MT"/>
            </a:endParaRPr>
          </a:p>
          <a:p>
            <a:pPr marL="325800" indent="-325800">
              <a:lnSpc>
                <a:spcPct val="90000"/>
              </a:lnSpc>
              <a:spcBef>
                <a:spcPts val="2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For comparative purposes, our sample included 4-H youth and non-4-H youth.  </a:t>
            </a:r>
            <a:endParaRPr b="1" lang="en-US" sz="3200" spc="-1" strike="noStrike">
              <a:solidFill>
                <a:srgbClr val="336699"/>
              </a:solidFill>
              <a:latin typeface="Tw Cen MT"/>
            </a:endParaRPr>
          </a:p>
          <a:p>
            <a:pPr marL="325800" indent="-325800">
              <a:lnSpc>
                <a:spcPct val="90000"/>
              </a:lnSpc>
              <a:spcBef>
                <a:spcPts val="2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Our goal is to re-survey these NC youth for at least two or three years.</a:t>
            </a:r>
            <a:endParaRPr b="1" lang="en-US" sz="3200" spc="-1" strike="noStrike">
              <a:solidFill>
                <a:srgbClr val="336699"/>
              </a:solidFill>
              <a:latin typeface="Tw Cen MT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209320" y="11844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4-H Study of Positive Youth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0" y="83808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Arial"/>
                <a:ea typeface="Arial"/>
              </a:rPr>
              <a:t>The Student Questionnaire </a:t>
            </a:r>
            <a:endParaRPr b="0" lang="en-US" sz="36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7720" y="1828440"/>
            <a:ext cx="7543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More than 300 questions</a:t>
            </a:r>
            <a:endParaRPr b="1" lang="en-US" sz="2400" spc="-1" strike="noStrike">
              <a:solidFill>
                <a:srgbClr val="336699"/>
              </a:solidFill>
              <a:latin typeface="Tw Cen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Demographic questions</a:t>
            </a:r>
            <a:endParaRPr b="1" lang="en-US" sz="2400" spc="-1" strike="noStrike">
              <a:solidFill>
                <a:srgbClr val="336699"/>
              </a:solidFill>
              <a:latin typeface="Tw Cen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3399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9966"/>
                </a:solidFill>
                <a:latin typeface="Arial"/>
                <a:ea typeface="Arial"/>
              </a:rPr>
              <a:t>About the children, their household, the time they have lived in their neighborhood, etc.</a:t>
            </a:r>
            <a:endParaRPr b="0" lang="en-US" sz="2000" spc="-1" strike="noStrike">
              <a:solidFill>
                <a:srgbClr val="336699"/>
              </a:solidFill>
              <a:latin typeface="Tw Cen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Future Goals and Expectations</a:t>
            </a:r>
            <a:endParaRPr b="1" lang="en-US" sz="2400" spc="-1" strike="noStrike">
              <a:solidFill>
                <a:srgbClr val="336699"/>
              </a:solidFill>
              <a:latin typeface="Tw Cen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Activity Participation</a:t>
            </a:r>
            <a:endParaRPr b="1" lang="en-US" sz="2400" spc="-1" strike="noStrike">
              <a:solidFill>
                <a:srgbClr val="336699"/>
              </a:solidFill>
              <a:latin typeface="Tw Cen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3399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9966"/>
                </a:solidFill>
                <a:latin typeface="Arial"/>
                <a:ea typeface="Arial"/>
              </a:rPr>
              <a:t>School clubs, sports, lessons, after-school programs</a:t>
            </a:r>
            <a:endParaRPr b="0" lang="en-US" sz="2000" spc="-1" strike="noStrike">
              <a:solidFill>
                <a:srgbClr val="336699"/>
              </a:solidFill>
              <a:latin typeface="Tw Cen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Relationships with parents, friends, other adults</a:t>
            </a:r>
            <a:endParaRPr b="1" lang="en-US" sz="2400" spc="-1" strike="noStrike">
              <a:solidFill>
                <a:srgbClr val="336699"/>
              </a:solidFill>
              <a:latin typeface="Tw Cen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Involvement in positive behaviors</a:t>
            </a:r>
            <a:endParaRPr b="1" lang="en-US" sz="2400" spc="-1" strike="noStrike">
              <a:solidFill>
                <a:srgbClr val="336699"/>
              </a:solidFill>
              <a:latin typeface="Tw Cen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Involvement in risk behaviors</a:t>
            </a:r>
            <a:endParaRPr b="1" lang="en-US" sz="24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2209320" y="11844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4-H Study of Positive Youth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9:17:24Z</dcterms:created>
  <dc:creator>.</dc:creator>
  <dc:description/>
  <dc:language>en-US</dc:language>
  <cp:lastModifiedBy>Ben Silliman</cp:lastModifiedBy>
  <dcterms:modified xsi:type="dcterms:W3CDTF">2009-01-15T16:43:42Z</dcterms:modified>
  <cp:revision>91</cp:revision>
  <dc:subject/>
  <dc:title>Slide 1</dc:title>
</cp:coreProperties>
</file>